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073-DFBB-4D1B-A1C5-7007CC8D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7579-3FB2-4BC2-9334-8792E620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C83-C637-49C9-B478-DBAEBA15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B67-4544-487B-AFEE-99CD382E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F45-4788-48D6-8A06-3CBD34C5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5AB-2395-4E05-AA09-9594C3C8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123-7DE9-4700-A285-EFCE2680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48B-AF39-41A2-A95B-A22C84D8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6E6-F0D5-43BF-976E-1D6505B9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1F3-2BEF-4651-A555-3EB3796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DAF-49B8-4233-8C06-7417F2AD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E41-4735-4EA1-8C93-B83FBB73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ABAF-B9CD-4FDD-8731-5A081D012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Apostles’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50:20Z</dcterms:created>
  <dc:creator>Anon Anon</dc:creator>
  <dc:description/>
  <dc:language>en-US</dc:language>
  <cp:lastModifiedBy>Anon Anon</cp:lastModifiedBy>
  <dcterms:modified xsi:type="dcterms:W3CDTF">2005-08-16T04:23:30Z</dcterms:modified>
  <cp:revision>10</cp:revision>
  <dc:subject/>
  <dc:title>The Apostles’ Creed</dc:title>
</cp:coreProperties>
</file>